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28.png" ContentType="image/png"/>
  <Override PartName="/ppt/media/image38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6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9.jpeg" ContentType="image/jpeg"/>
  <Override PartName="/ppt/media/image11.png" ContentType="image/png"/>
  <Override PartName="/ppt/media/image30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D90FF-CFAA-4F93-8F52-4B76AECF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9B76A-98C8-4232-87CD-961B2777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34B14-B956-4FFA-889D-B2290777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DC35B-E6A9-4BFC-8056-9BD99E9A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682F2-B907-456A-9E19-1E84EFFD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6384D-81AD-4154-AEB7-B799455C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D92B4-9C26-4969-AD84-1359BD11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0EF85-E874-49DD-981C-D8BE9404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1200A-3697-47A5-B90B-0C86D2A7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A93B7-1622-454D-8D30-4745E011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00266-6663-4D36-A555-30212238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F7919-0FB8-417B-9865-888B86CD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244000" y="6453360"/>
            <a:ext cx="10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eead0"/>
                </a:solidFill>
                <a:latin typeface="Comic Sans MS"/>
              </a:rPr>
              <a:t>O. Emor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2920" y="150840"/>
            <a:ext cx="9004320" cy="198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E3E0-5E43-4D2E-914B-B4C8133B5B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42560" y="2892240"/>
            <a:ext cx="8893080" cy="29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ad0"/>
                </a:solidFill>
                <a:latin typeface="Tahoma"/>
              </a:rPr>
              <a:t>Pour agir en toute sécur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ad0"/>
                </a:solidFill>
                <a:latin typeface="Tahoma"/>
              </a:rPr>
              <a:t>Sachons lire les pictogrammes figurant sur les étiquettes des  produits que nous utilis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618920" y="1125000"/>
            <a:ext cx="6048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Les pictogrammes en chimi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920" y="4076280"/>
            <a:ext cx="82296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ahoma"/>
              </a:rPr>
              <a:t>Irritan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42920" y="5048280"/>
            <a:ext cx="86374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19280" indent="-1619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Verdana"/>
              </a:rPr>
              <a:t>Danger :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Substances qui provoquent une irritation de la peau, des yeux et des voies respiratoi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Verdana"/>
              </a:rPr>
              <a:t>Attention :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Ne pas respirer les vapeurs et éviter tout contact avec la peau et les ye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17841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1052280"/>
            <a:ext cx="61009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e4a8"/>
                </a:solidFill>
                <a:latin typeface="Tahoma"/>
              </a:rPr>
              <a:t>Produits irritants couran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9640" y="2517840"/>
            <a:ext cx="2340000" cy="2806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417840" y="2517840"/>
            <a:ext cx="2340000" cy="2806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297480" y="2517840"/>
            <a:ext cx="2340000" cy="2806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1280" y="544500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5397480"/>
            <a:ext cx="23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ff"/>
                </a:solidFill>
                <a:uFillTx/>
                <a:latin typeface="Verdana"/>
              </a:rPr>
              <a:t>Détart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5397480"/>
            <a:ext cx="23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ff"/>
                </a:solidFill>
                <a:uFillTx/>
                <a:latin typeface="Verdana"/>
              </a:rPr>
              <a:t>L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97480" y="5397480"/>
            <a:ext cx="23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ff"/>
                </a:solidFill>
                <a:uFillTx/>
                <a:latin typeface="Verdana"/>
              </a:rPr>
              <a:t>Ja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920" y="4076280"/>
            <a:ext cx="86263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ahoma"/>
              </a:rPr>
              <a:t>Produit corrosif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023840" y="3305160"/>
            <a:ext cx="88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20" y="5048280"/>
            <a:ext cx="86374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19280" indent="-1619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Verdana"/>
              </a:rPr>
              <a:t>Danger :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Destruction des tissus vivants et également des matéria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Verdana"/>
              </a:rPr>
              <a:t>Attention :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Ne pas respirer les vapeurs et éviter tout contact avec la peau, les yeux et les vê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17841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7280" y="1052280"/>
            <a:ext cx="61009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e4a8"/>
                </a:solidFill>
                <a:latin typeface="Tahoma"/>
              </a:rPr>
              <a:t>Produits corrosifs couran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9640" y="2517840"/>
            <a:ext cx="2340000" cy="2806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417840" y="2517840"/>
            <a:ext cx="2340000" cy="2806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297480" y="2517840"/>
            <a:ext cx="2340000" cy="2808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11280" y="5445000"/>
            <a:ext cx="23763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5397480"/>
            <a:ext cx="23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fccff"/>
                </a:solidFill>
                <a:uFillTx/>
                <a:latin typeface="Verdana"/>
              </a:rPr>
              <a:t>Déboucheu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5397480"/>
            <a:ext cx="23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fccff"/>
                </a:solidFill>
                <a:uFillTx/>
                <a:latin typeface="Verdana"/>
              </a:rPr>
              <a:t>Nettoyant fou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97480" y="5397480"/>
            <a:ext cx="23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fccff"/>
                </a:solidFill>
                <a:uFillTx/>
                <a:latin typeface="Verdana"/>
              </a:rPr>
              <a:t>Acide chlorhydri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920" y="4076280"/>
            <a:ext cx="86263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ahoma"/>
              </a:rPr>
              <a:t>Toxique      Très toxiqu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42920" y="5048280"/>
            <a:ext cx="86374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5600" indent="-169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Verdana"/>
              </a:rPr>
              <a:t>Danger :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Possibilité de graves désordres de la santé ou même de mort après inhalation, ingestion, pénétration ou absorption par voie cutané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5600" indent="-169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5600" indent="-169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Verdana"/>
              </a:rPr>
              <a:t>Attention : 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Éviter tout contact corporel et, en cas de malaises, consulter immédiatement un médec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0920" y="215892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38560" y="215892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7280" y="1052280"/>
            <a:ext cx="61009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e4a8"/>
                </a:solidFill>
                <a:latin typeface="Tahoma"/>
              </a:rPr>
              <a:t>Produits toxiques couran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9640" y="2517840"/>
            <a:ext cx="2340000" cy="2808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11280" y="544500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5397480"/>
            <a:ext cx="23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ff"/>
                </a:solidFill>
                <a:uFillTx/>
                <a:latin typeface="Verdana"/>
              </a:rPr>
              <a:t>Mé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417840" y="2517840"/>
            <a:ext cx="2340000" cy="2808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419640" y="5397480"/>
            <a:ext cx="23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ff"/>
                </a:solidFill>
                <a:uFillTx/>
                <a:latin typeface="Verdana"/>
              </a:rPr>
              <a:t>Ami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297480" y="2517840"/>
            <a:ext cx="234000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297480" y="5397480"/>
            <a:ext cx="23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ff"/>
                </a:solidFill>
                <a:uFillTx/>
                <a:latin typeface="Verdana"/>
              </a:rPr>
              <a:t>Es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42920" y="407628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Pollu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1784160" cy="178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42920" y="5048280"/>
            <a:ext cx="86374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19280" indent="-1619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cff"/>
                </a:solidFill>
                <a:latin typeface="Verdana"/>
              </a:rPr>
              <a:t>Danger :</a:t>
            </a:r>
            <a:r>
              <a:rPr b="0" lang="fr-FR" sz="1800" spc="-1" strike="noStrike">
                <a:solidFill>
                  <a:srgbClr val="ffccff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ffccff"/>
                </a:solidFill>
                <a:latin typeface="Verdana"/>
              </a:rPr>
              <a:t>Substances nocives pour l'environnement aquatique et non aquatique (faune flore, atmosphère) ou ayant un effet nuisible à long te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cff"/>
                </a:solidFill>
                <a:latin typeface="Verdana"/>
              </a:rPr>
              <a:t>Attention :</a:t>
            </a:r>
            <a:r>
              <a:rPr b="0" lang="fr-FR" sz="1800" spc="-1" strike="noStrike">
                <a:solidFill>
                  <a:srgbClr val="ffccff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ffccff"/>
                </a:solidFill>
                <a:latin typeface="Verdana"/>
              </a:rPr>
              <a:t>Éviter le rejet dans l'environne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7280" y="1052280"/>
            <a:ext cx="61009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e4a8"/>
                </a:solidFill>
                <a:latin typeface="Tahoma"/>
              </a:rPr>
              <a:t>Produits polluants couran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2517840"/>
            <a:ext cx="2335320" cy="2806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417840" y="2517840"/>
            <a:ext cx="2340000" cy="2808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1280" y="544500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5397480"/>
            <a:ext cx="23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ffccff"/>
                </a:solidFill>
                <a:uFillTx/>
                <a:latin typeface="Verdana"/>
              </a:rPr>
              <a:t>White spi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9640" y="5397480"/>
            <a:ext cx="23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ff"/>
                </a:solidFill>
                <a:uFillTx/>
                <a:latin typeface="Verdana"/>
              </a:rPr>
              <a:t>Lave g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297480" y="2517840"/>
            <a:ext cx="2349720" cy="2808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297480" y="5397480"/>
            <a:ext cx="23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ff"/>
                </a:solidFill>
                <a:uFillTx/>
                <a:latin typeface="Verdana"/>
              </a:rPr>
              <a:t>Constituants des batt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39320" y="2162160"/>
            <a:ext cx="863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540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Examiner le pictogramme n’est pas suffisa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95400">
              <a:lnSpc>
                <a:spcPct val="13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Des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phrases de risques</a:t>
            </a: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95400">
              <a:lnSpc>
                <a:spcPct val="13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Des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phrases de préventions</a:t>
            </a: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 de ces ris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95400" indent="0" algn="just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sont aussi présentent sur l’étiquet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95400" indent="0" algn="ctr">
              <a:lnSpc>
                <a:spcPct val="13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ff"/>
                </a:solidFill>
                <a:uFillTx/>
                <a:latin typeface="Tahoma"/>
              </a:rPr>
              <a:t>ALORS NE LES ZAPPER P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50920" y="826560"/>
            <a:ext cx="865512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ecff"/>
                </a:solidFill>
                <a:latin typeface="Tahoma"/>
              </a:rPr>
              <a:t>CONSEILS IMPORTANT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24720" y="4869000"/>
            <a:ext cx="11984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551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L’étiquette d’un produit de rebouchag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604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920" y="4065480"/>
            <a:ext cx="81230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ahoma"/>
              </a:rPr>
              <a:t>Comburan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2560" y="50130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19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Verdana"/>
              </a:rPr>
              <a:t>Danger :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Substances favorisant l’incendie pouvant enflammer des substances combustibles ou provoquer des incendies et compliquer ainsi la lutte contre l’incendi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19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19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Verdana"/>
              </a:rPr>
              <a:t>Attention :</a:t>
            </a:r>
            <a:r>
              <a:rPr b="1" lang="en-US" sz="1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Éviter tout contact avec des substances combustib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178884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833400"/>
            <a:ext cx="863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ecff"/>
                </a:solidFill>
                <a:latin typeface="Tahoma"/>
              </a:rPr>
              <a:t>CONSEILS IMPORTANT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142920" y="2170080"/>
            <a:ext cx="878040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C’est parce que l’étiquette nous apporte des informations précieuses qu’il ne faut pas hésiter à la l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C’est pourquoi transvider des produits d’une bouteille à une autre sans retranscrire sur celle-ci son contenu réel peut s’avérer dangereux voir mort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ecff"/>
                </a:solidFill>
                <a:uFillTx/>
                <a:latin typeface="Comic Sans MS"/>
              </a:rPr>
              <a:t>Exemple</a:t>
            </a:r>
            <a:r>
              <a:rPr b="1" lang="en-US" sz="2400" spc="-1" strike="noStrike">
                <a:solidFill>
                  <a:srgbClr val="ccecff"/>
                </a:solidFill>
                <a:latin typeface="Comic Sans MS"/>
              </a:rPr>
              <a:t>:</a:t>
            </a:r>
            <a:r>
              <a:rPr b="1" lang="en-US" sz="2400" spc="-1" strike="noStrike">
                <a:solidFill>
                  <a:srgbClr val="f2340e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mettre de l’eau de Javel dans une bouteille d’eau minérale n’est pas une bonne idée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31640" y="981000"/>
            <a:ext cx="64594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Verdana"/>
              </a:rPr>
              <a:t>Sur ces quelques mo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5661000"/>
            <a:ext cx="51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ff"/>
                </a:solidFill>
                <a:latin typeface="Verdana"/>
              </a:rPr>
              <a:t>Bonne chance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8638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4920" y="1052280"/>
            <a:ext cx="627984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e4a8"/>
                </a:solidFill>
                <a:latin typeface="Tahoma"/>
              </a:rPr>
              <a:t>Produits comburants couran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9640" y="2517840"/>
            <a:ext cx="2340000" cy="2808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97480" y="2517840"/>
            <a:ext cx="2340000" cy="280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417840" y="2517840"/>
            <a:ext cx="2340000" cy="2808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544500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5397480"/>
            <a:ext cx="23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ff"/>
                </a:solidFill>
                <a:uFillTx/>
                <a:latin typeface="Verdana"/>
              </a:rPr>
              <a:t>Es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9640" y="5397480"/>
            <a:ext cx="23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ff"/>
                </a:solidFill>
                <a:uFillTx/>
                <a:latin typeface="Verdana"/>
              </a:rPr>
              <a:t>Déshe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97480" y="5397480"/>
            <a:ext cx="23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ff"/>
                </a:solidFill>
                <a:uFillTx/>
                <a:latin typeface="Verdana"/>
              </a:rPr>
              <a:t>Engrais (AZ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4076280"/>
            <a:ext cx="82296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Inflammable    Très inflammabl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2920" y="5048280"/>
            <a:ext cx="8640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19280" indent="-1619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Verdana"/>
              </a:rPr>
              <a:t>Danger :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Substances spontanément inflammables ou facilement inflamm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Verdana"/>
              </a:rPr>
              <a:t>Attention :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Éviter le contact avec l’air ou empêcher la formation des mélanges gaz- air inflammables et éloigner les causes d’inflam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38560" y="206064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052280"/>
            <a:ext cx="66042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e4a8"/>
                </a:solidFill>
                <a:latin typeface="Tahoma"/>
              </a:rPr>
              <a:t>Produits inflammables courants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17840" y="2517840"/>
            <a:ext cx="2340000" cy="2808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1280" y="544500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5373720"/>
            <a:ext cx="23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ff"/>
                </a:solidFill>
                <a:uFillTx/>
                <a:latin typeface="Verdana"/>
              </a:rPr>
              <a:t>Essence à briqu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5397480"/>
            <a:ext cx="23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ff"/>
                </a:solidFill>
                <a:uFillTx/>
                <a:latin typeface="Verdana"/>
              </a:rPr>
              <a:t>Ver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97480" y="5397480"/>
            <a:ext cx="23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9640" y="2517840"/>
            <a:ext cx="2340000" cy="280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9640" y="5397480"/>
            <a:ext cx="23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ff"/>
                </a:solidFill>
                <a:uFillTx/>
                <a:latin typeface="Verdana"/>
              </a:rPr>
              <a:t>Tous les aéros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297480" y="2517840"/>
            <a:ext cx="22561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920" y="4076280"/>
            <a:ext cx="86248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ahoma"/>
              </a:rPr>
              <a:t>Substance explosiv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42920" y="5048280"/>
            <a:ext cx="86374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19280" indent="-1619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Verdana"/>
              </a:rPr>
              <a:t>Danger : </a:t>
            </a:r>
            <a:r>
              <a:rPr b="1" lang="en-US" sz="1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Substances qui peuvent exploser dans des conditions détermin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Verdana"/>
              </a:rPr>
              <a:t>Attention :</a:t>
            </a:r>
            <a:r>
              <a:rPr b="1" lang="en-US" sz="1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Éviter les chocs, secousses, frictions, formation d’étincelles et influence de chal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6000" y="2060640"/>
            <a:ext cx="17841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280" y="1052280"/>
            <a:ext cx="61009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e4a8"/>
                </a:solidFill>
                <a:latin typeface="Tahoma"/>
              </a:rPr>
              <a:t>Produits explosifs couran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2517840"/>
            <a:ext cx="2340000" cy="2808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17840" y="2517840"/>
            <a:ext cx="2340000" cy="2808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297480" y="2517840"/>
            <a:ext cx="2340000" cy="2808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11280" y="544500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5397480"/>
            <a:ext cx="23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ff"/>
                </a:solidFill>
                <a:uFillTx/>
                <a:latin typeface="Verdana"/>
              </a:rPr>
              <a:t>Dyna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5397480"/>
            <a:ext cx="23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ff"/>
                </a:solidFill>
                <a:uFillTx/>
                <a:latin typeface="Verdana"/>
              </a:rPr>
              <a:t>Engrais (AZ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97480" y="5397480"/>
            <a:ext cx="23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ff"/>
                </a:solidFill>
                <a:uFillTx/>
                <a:latin typeface="Verdana"/>
              </a:rPr>
              <a:t>G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2560" y="4076280"/>
            <a:ext cx="7731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ahoma"/>
              </a:rPr>
              <a:t>Nocif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42920" y="5048280"/>
            <a:ext cx="8637480" cy="86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19280" indent="-1619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Verdana"/>
              </a:rPr>
              <a:t>Danger :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Après introduction dans l’organisme, ces substances provoquent de faibles altérations de la san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Verdana"/>
              </a:rPr>
              <a:t>Attention :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ccff"/>
                </a:solidFill>
                <a:latin typeface="Verdana"/>
              </a:rPr>
              <a:t>Éviter tout contact corporel ainsi que l’inhalation des vapeurs et, en cas de malaise, consulter un médec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17841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7280" y="1052280"/>
            <a:ext cx="61009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e4a8"/>
                </a:solidFill>
                <a:latin typeface="Tahoma"/>
              </a:rPr>
              <a:t>Produits nocifs couran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2517840"/>
            <a:ext cx="2340000" cy="2806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417840" y="2517840"/>
            <a:ext cx="2340000" cy="2806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11280" y="544500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5397480"/>
            <a:ext cx="23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ff"/>
                </a:solidFill>
                <a:uFillTx/>
                <a:latin typeface="Verdana"/>
              </a:rPr>
              <a:t>Cire à parqu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19640" y="5397480"/>
            <a:ext cx="23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ff"/>
                </a:solidFill>
                <a:uFillTx/>
                <a:latin typeface="Verdana"/>
              </a:rPr>
              <a:t>Détach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297480" y="2517840"/>
            <a:ext cx="2340000" cy="2808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297480" y="5397480"/>
            <a:ext cx="23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ff"/>
                </a:solidFill>
                <a:uFillTx/>
                <a:latin typeface="Verdana"/>
              </a:rPr>
              <a:t>Javel en pasti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23:00:42Z</dcterms:created>
  <dc:creator>NEC Computers International</dc:creator>
  <dc:description/>
  <dc:language>en-US</dc:language>
  <cp:lastModifiedBy>NEC Computers International</cp:lastModifiedBy>
  <dcterms:modified xsi:type="dcterms:W3CDTF">2004-10-14T21:52:04Z</dcterms:modified>
  <cp:revision>31</cp:revision>
  <dc:subject/>
  <dc:title>Produit corrosif</dc:title>
</cp:coreProperties>
</file>