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3E34-256A-4AA0-AE79-064CA4D20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1665-9EDE-40C8-A3B1-8CF54531B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ADF7-C41D-486D-814E-BB6874E51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67F6-F6FD-4E54-9574-7570ACAAE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F733-D6B0-44F0-842B-2F716659F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5BB9-6192-4C9C-99BE-9355AEC2B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2E18-94E0-40C6-81F5-0FAD47D1D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A1C8-1F5A-441F-80FC-6EF787B23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D7C4-09D4-47B0-AE31-504319E49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9F23-B198-48D8-9A73-6CE299410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AD24-2F25-4E18-860A-E72E47674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81CB-7D68-46CB-BD9C-D08FCF807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191440" y="6629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80808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808080"/>
                </a:solidFill>
                <a:latin typeface="Comic Sans MS"/>
              </a:rPr>
              <a:t>O. Emorine</a:t>
            </a:r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©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179C3-BE9D-4968-B509-F162463369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118360" y="6613560"/>
            <a:ext cx="2051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808080"/>
                </a:solidFill>
                <a:latin typeface="Comic Sans MS"/>
              </a:rPr>
              <a:t>O. Emorine</a:t>
            </a:r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©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construction%20g&#233;om&#233;trique%20flash/sym3.swf" TargetMode="Externa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construction%20g&#233;om&#233;trique%20flash/sym3.swf" TargetMode="Externa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construction%20g&#233;om&#233;trique%20flash/sym3.swf" TargetMode="External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construction%20g&#233;om&#233;trique%20flash/sym3.swf" TargetMode="Externa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8560" y="898560"/>
            <a:ext cx="846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3333cc"/>
                </a:solidFill>
                <a:latin typeface="Comic Sans MS"/>
              </a:rPr>
              <a:t>Construction d’un logo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949480" y="2338560"/>
            <a:ext cx="3380040" cy="32032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8118360" y="6643800"/>
            <a:ext cx="2051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808080"/>
                </a:solidFill>
                <a:latin typeface="Comic Sans MS"/>
              </a:rPr>
              <a:t>O. Emorin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58920" y="-360"/>
            <a:ext cx="82771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Étape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 n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°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0920" y="1258920"/>
            <a:ext cx="86374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ff3300"/>
                </a:solidFill>
                <a:uFillTx/>
                <a:latin typeface="Comic Sans MS"/>
                <a:hlinkClick r:id="rId1"/>
              </a:rPr>
              <a:t>Tracer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les points A’, B’, C’, E’, F’ symétriques respectifs de A, B, C, E ,F par la symétrie orthogonale d’axe 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2517840" y="2338560"/>
            <a:ext cx="3959280" cy="39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58920" y="-360"/>
            <a:ext cx="82771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Étape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 n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°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50920" y="1258920"/>
            <a:ext cx="86374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Placer le point I de coordonnées (0 ; -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517840" y="2338560"/>
            <a:ext cx="3959280" cy="39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58920" y="-360"/>
            <a:ext cx="82771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Étape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 n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°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1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0920" y="1258920"/>
            <a:ext cx="86374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Tracer la droite D</a:t>
            </a:r>
            <a:r>
              <a:rPr b="0" lang="fr-FR" sz="18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parallèle à la droite (AB) passant par 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517840" y="2338560"/>
            <a:ext cx="3959280" cy="39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8920" y="-360"/>
            <a:ext cx="82771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Étape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 n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°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16000" y="1258920"/>
            <a:ext cx="86374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ff3300"/>
                </a:solidFill>
                <a:uFillTx/>
                <a:latin typeface="Comic Sans MS"/>
                <a:hlinkClick r:id="rId1"/>
              </a:rPr>
              <a:t>Tracer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la droite D</a:t>
            </a:r>
            <a:r>
              <a:rPr b="0" lang="fr-FR" sz="1800" spc="-1" strike="noStrike" baseline="-25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symétrique de la droite (EF) par rapport à la droite D</a:t>
            </a:r>
            <a:r>
              <a:rPr b="0" lang="fr-FR" sz="18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2517840" y="2338560"/>
            <a:ext cx="3959280" cy="39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58920" y="-360"/>
            <a:ext cx="82771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Étape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 n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°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1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50920" y="1258920"/>
            <a:ext cx="86374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ff3300"/>
                </a:solidFill>
                <a:uFillTx/>
                <a:latin typeface="Comic Sans MS"/>
                <a:hlinkClick r:id="rId1"/>
              </a:rPr>
              <a:t>Tracer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la droite D</a:t>
            </a:r>
            <a:r>
              <a:rPr b="0" lang="fr-FR" sz="1800" spc="-1" strike="noStrike" baseline="-25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symétrique de la droite (AB) par rapport à la droite D</a:t>
            </a:r>
            <a:r>
              <a:rPr b="0" lang="fr-FR" sz="18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2517840" y="2338560"/>
            <a:ext cx="3959280" cy="39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58920" y="-360"/>
            <a:ext cx="82771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Étape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 n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°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1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50920" y="1258920"/>
            <a:ext cx="86374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Repasser au stylo les traits qui constituent une partie du logo comme cela est fait en rouge sur le croquis suivant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517840" y="2338560"/>
            <a:ext cx="3959280" cy="39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58920" y="-360"/>
            <a:ext cx="82771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Étape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 n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°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1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6000" y="1258920"/>
            <a:ext cx="86374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Effacer tous les traits non repassés au stylo en conservant (ou retraçant après) l’axe des ordonnées du repè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17840" y="2338560"/>
            <a:ext cx="3959280" cy="39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58920" y="-360"/>
            <a:ext cx="82771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Étape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 n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°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1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50920" y="1258920"/>
            <a:ext cx="86374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1. Opérer sur l’ensemble du dessin une symétrie d’axe l’axe des ordonné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2. Atelier colori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39640" y="2338560"/>
            <a:ext cx="7917120" cy="39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6200" y="2517840"/>
            <a:ext cx="827748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Times New Roman"/>
              </a:rPr>
              <a:t>THE END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58920" y="-360"/>
            <a:ext cx="82771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Étape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 n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°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50920" y="1258920"/>
            <a:ext cx="86374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lacer un point O au milieu de la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feuill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racer le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cercl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de centre O et de rayon 5,5 c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517840" y="2338560"/>
            <a:ext cx="3959280" cy="39589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8118360" y="6613560"/>
            <a:ext cx="2051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808080"/>
                </a:solidFill>
                <a:latin typeface="Comic Sans MS"/>
              </a:rPr>
              <a:t>O. Emorine</a:t>
            </a:r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©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58920" y="-360"/>
            <a:ext cx="827712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 u="sng">
                <a:solidFill>
                  <a:srgbClr val="000000"/>
                </a:solidFill>
                <a:uFillTx/>
                <a:latin typeface="Comic Sans MS"/>
              </a:rPr>
              <a:t>Étape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 n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°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517840" y="2338560"/>
            <a:ext cx="3959280" cy="39589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50920" y="1258920"/>
            <a:ext cx="8637480" cy="12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Tracer le cercle de centre O et de rayon 4,7 c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118360" y="6613560"/>
            <a:ext cx="2051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808080"/>
                </a:solidFill>
                <a:latin typeface="Comic Sans MS"/>
              </a:rPr>
              <a:t>O. Emorine</a:t>
            </a:r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©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58920" y="-360"/>
            <a:ext cx="827712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 u="sng">
                <a:solidFill>
                  <a:srgbClr val="000000"/>
                </a:solidFill>
                <a:uFillTx/>
                <a:latin typeface="Comic Sans MS"/>
              </a:rPr>
              <a:t>Étape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 n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°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0920" y="1258920"/>
            <a:ext cx="86374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Tracer le cercle de centre O et de rayon 3,8 c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517840" y="2338560"/>
            <a:ext cx="3959280" cy="39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58920" y="-360"/>
            <a:ext cx="827712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 u="sng">
                <a:solidFill>
                  <a:srgbClr val="000000"/>
                </a:solidFill>
                <a:uFillTx/>
                <a:latin typeface="Comic Sans MS"/>
              </a:rPr>
              <a:t>Étape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 n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°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50920" y="1258920"/>
            <a:ext cx="86374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1.  En vous aidant du bord de la feuille,  tracer la droite « horizontale » D passant par 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2. Tracer la droite D’ perpendiculaire à D passant par 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On obtient donc un repère orthonormé (unité=1c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97480" y="5576760"/>
            <a:ext cx="43178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On no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H et K les points d’intersection de D’ et du plus petit cercle trac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58920" y="2517840"/>
            <a:ext cx="395892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58920" y="-360"/>
            <a:ext cx="82771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Étape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 n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°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50920" y="1258920"/>
            <a:ext cx="86374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Placer le point A de coordonnées (0 ; 1,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Tracer la droite passant par A faisant un angle de 24 ° avec l’axe des ordonnées comme sur le croquis ci-dessou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58920" y="2517840"/>
            <a:ext cx="3958920" cy="39592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4497480" y="5397480"/>
            <a:ext cx="43178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On note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B le point d’abscisse négatif intersection de la droite tracée dans cette étape et du petit cerc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58920" y="-360"/>
            <a:ext cx="82771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Étape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 n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°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50920" y="1258920"/>
            <a:ext cx="86374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Tracer la droite D</a:t>
            </a:r>
            <a:r>
              <a:rPr b="0" lang="fr-FR" sz="1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parallèle à la droite (AB) passant par 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517840" y="2338560"/>
            <a:ext cx="3959280" cy="39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58920" y="-360"/>
            <a:ext cx="82771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Étape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 n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°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50920" y="1258920"/>
            <a:ext cx="86374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ff3300"/>
                </a:solidFill>
                <a:uFillTx/>
                <a:latin typeface="Comic Sans MS"/>
                <a:hlinkClick r:id="rId1"/>
              </a:rPr>
              <a:t>Tracer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la droite D</a:t>
            </a:r>
            <a:r>
              <a:rPr b="0" lang="fr-FR" sz="1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symétrique de la droite (AB) par rapport à la droite D</a:t>
            </a:r>
            <a:r>
              <a:rPr b="0" lang="fr-FR" sz="1800" spc="-1" strike="noStrike" baseline="-25000">
                <a:solidFill>
                  <a:srgbClr val="000000"/>
                </a:solidFill>
                <a:latin typeface="Comic Sans MS"/>
              </a:rPr>
              <a:t>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2517840" y="2338560"/>
            <a:ext cx="3959280" cy="39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58920" y="-360"/>
            <a:ext cx="82771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Étape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 n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°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50920" y="1258920"/>
            <a:ext cx="86374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1. Placer le point C de coordonnées (0 ; 0,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2. Tracer la droite D</a:t>
            </a:r>
            <a:r>
              <a:rPr b="0" lang="fr-FR" sz="1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parallèle à la droite D passant par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572000" y="4149720"/>
            <a:ext cx="457200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On note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E le point d’intersection de D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et D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F le point d’abscisse négative intersection de D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et du petit cerc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58920" y="2517840"/>
            <a:ext cx="395892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EC Computers International</cp:lastModifiedBy>
  <dcterms:modified xsi:type="dcterms:W3CDTF">2005-01-11T17:12:47Z</dcterms:modified>
  <cp:revision>15</cp:revision>
  <dc:subject/>
  <dc:title>PowerPoint Presentation</dc:title>
</cp:coreProperties>
</file>